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754A-19CC-41D1-BD69-216CB7312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7B94-242F-48E9-B002-4F227F7BF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6214-51DC-4E79-8171-3184D04D7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BFA0-037E-4BD1-A285-72F9D3530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D4A9-BADD-46CE-BF9C-346B24272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15A3-1735-4D1D-ADEA-29D9EC166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255E-8DDC-4659-B7CF-05ECAA757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37F7-04E0-4FB8-B7DC-C8D8B1C37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90B9-32B5-4CC2-A117-99C500104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F5A8-9BFB-4D1E-9EE7-40D288DE6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0C66-823F-4555-8440-053EFD6B5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A94F-3053-49B7-B343-B9C5E163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038480" y="0"/>
            <a:ext cx="4496040" cy="617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Welcom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to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LutherMania!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2633760" cy="33526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523880" y="304920"/>
            <a:ext cx="1333800" cy="135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 flipV="1">
            <a:off x="838080" y="1066320"/>
            <a:ext cx="0" cy="5791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1752480" y="1828800"/>
            <a:ext cx="69343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) people were afraid of spending a long time in Purgatory after they di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1333800" cy="13525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822680" y="533520"/>
            <a:ext cx="6046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4: Tetzel’s indulgences were sel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ll becaus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 flipV="1">
            <a:off x="838080" y="1066320"/>
            <a:ext cx="0" cy="5791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1752480" y="1828800"/>
            <a:ext cx="69343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) a night club in Minneapol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) a gambling casino in northern Wiscons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) a holding tank between Heaven and He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) a place in Georgia where there is a crematory named the Purgatory Cremator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1333800" cy="13525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826280" y="533520"/>
            <a:ext cx="305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5: Purgatory w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 flipV="1">
            <a:off x="838080" y="1066320"/>
            <a:ext cx="0" cy="5791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752480" y="1828800"/>
            <a:ext cx="69343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) a holding tank between Heaven and He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1333800" cy="13525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826280" y="533520"/>
            <a:ext cx="305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5: Purgatory w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 flipV="1">
            <a:off x="838080" y="1066320"/>
            <a:ext cx="0" cy="5791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752480" y="1828800"/>
            <a:ext cx="69343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) was never mentioned in the Bible and didn’t exi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) was a great place for a couple to spend their honeymo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) was no worse than sitting through 500 of Pastor Wayne’s sermons - all at one 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) was like being on a train that never got to the s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1333800" cy="1352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820880" y="533520"/>
            <a:ext cx="54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6: Luther argued that Purgato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 flipV="1">
            <a:off x="838080" y="1066320"/>
            <a:ext cx="0" cy="5791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752480" y="1828800"/>
            <a:ext cx="69343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) was never mentioned in the Bible and didn’t exi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1333800" cy="13525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820880" y="533520"/>
            <a:ext cx="54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6: Luther argued that Purgato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 flipV="1">
            <a:off x="838080" y="1066320"/>
            <a:ext cx="0" cy="5791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752480" y="1828800"/>
            <a:ext cx="69343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) left Germany and moved to Tenness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) gave up his monkhood and becam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plumb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) told everyone that Tetzel the Pretzel was a contortioni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) preached against them with all his mi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1333800" cy="13525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820880" y="533520"/>
            <a:ext cx="62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7: Luther was so angry about the s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f indulgences that h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 flipV="1">
            <a:off x="838080" y="1066320"/>
            <a:ext cx="0" cy="5791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752480" y="1828800"/>
            <a:ext cx="69343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) preached against them with all his mi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1333800" cy="13525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820880" y="533520"/>
            <a:ext cx="62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7: Luther was so angry about the s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f indulgences that h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 flipV="1">
            <a:off x="838080" y="1066320"/>
            <a:ext cx="0" cy="5791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752480" y="1828800"/>
            <a:ext cx="69343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) it’s the only way to get through Confirm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) God keeps track of them on his Palm Pil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) our mothers are watch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) God has been good to us and our good works are a response to what God has d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1333800" cy="13525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820520" y="533520"/>
            <a:ext cx="5642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8: Luther said we should do g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orks becaus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 flipV="1">
            <a:off x="838080" y="1066320"/>
            <a:ext cx="0" cy="5791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752480" y="1828800"/>
            <a:ext cx="69343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) God has been good to us and our good works are a response to what God has d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1333800" cy="13525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820520" y="533520"/>
            <a:ext cx="5642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8: Luther said we should do g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orks becaus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 flipV="1">
            <a:off x="838080" y="1066320"/>
            <a:ext cx="0" cy="5791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752480" y="1828800"/>
            <a:ext cx="69343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) good for 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) good for oth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) good for G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) all of the abo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1333800" cy="13525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825560" y="533520"/>
            <a:ext cx="331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9: Good works 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09480" y="213372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Raise your hand when you think you know an answer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Winners will receive a br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new yellow Hummer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See Intern Linda for detail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838080" y="228600"/>
            <a:ext cx="7848720" cy="20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LutherMania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 flipV="1">
            <a:off x="838080" y="1066320"/>
            <a:ext cx="0" cy="5791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752480" y="1828800"/>
            <a:ext cx="69343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) good for 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) good for oth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) good for G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) all of the abo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1333800" cy="13525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825560" y="533520"/>
            <a:ext cx="331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9: Good works 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 flipV="1">
            <a:off x="838080" y="1066320"/>
            <a:ext cx="0" cy="5791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676160" y="2286000"/>
            <a:ext cx="693396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) the seat of their p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) the skin of their tee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) the golden ru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) fai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1333800" cy="13525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818000" y="533520"/>
            <a:ext cx="662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0: Habbakuk 2:4 reminded Luther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eminds us that “the righteous sh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ive by ___________”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000"/>
                            </p:stCondLst>
                            <p:childTnLst>
                              <p:par>
                                <p:cTn id="3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 flipV="1">
            <a:off x="838080" y="1066320"/>
            <a:ext cx="0" cy="5791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676160" y="2286000"/>
            <a:ext cx="693396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) fai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1333800" cy="13525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818000" y="533520"/>
            <a:ext cx="662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0: Habbakuk 2:4 reminded Luther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eminds us that “the righteous sh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ive by ___________”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8080" y="228600"/>
            <a:ext cx="7620120" cy="624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Congratulations!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You are an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official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Luther Scholar!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523880" y="304920"/>
            <a:ext cx="1333800" cy="135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flipV="1">
            <a:off x="838080" y="1066320"/>
            <a:ext cx="0" cy="5791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752480" y="1828800"/>
            <a:ext cx="69343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) buying the disciples a new fleet of Humm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) building St. Peter’s Cathedral in Ro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) repaving the streets where Luther walked in go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) building a football stadium with a retractable roof in downtown Wittenber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1333800" cy="1352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22320" y="533520"/>
            <a:ext cx="6025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: John Tetzel was sent to Germ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o raise money 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 flipV="1">
            <a:off x="838080" y="1066320"/>
            <a:ext cx="0" cy="5791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752480" y="1828800"/>
            <a:ext cx="69343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) building St. Peter’s Cathedral in Ro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1333800" cy="13525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822320" y="533520"/>
            <a:ext cx="6025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: John Tetzel was sent to Germ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o raise money 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flipV="1">
            <a:off x="838080" y="1066320"/>
            <a:ext cx="0" cy="5791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752480" y="1828800"/>
            <a:ext cx="69343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) installing a sandwich machine in Luther’s off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) opening a fast food chain called Tetzel’s Pretz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) selling roses to passers-by on street corners near the ma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) selling indulg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1333800" cy="13525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821960" y="533520"/>
            <a:ext cx="615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2: Tetzel raised money for St.Peter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athedral b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 flipV="1">
            <a:off x="838080" y="1066320"/>
            <a:ext cx="0" cy="5791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752480" y="1828800"/>
            <a:ext cx="69343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) selling indulg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1333800" cy="13525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821960" y="533520"/>
            <a:ext cx="615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2: Tetzel raised money for St.Peter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athedral b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flipV="1">
            <a:off x="838080" y="1066320"/>
            <a:ext cx="0" cy="5791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752480" y="1828800"/>
            <a:ext cx="69343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) forgiveness of sins and a place in Heav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) that you would get a perfect score on the S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) the tires on your car for 50,000 mi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) that your time in Purgatory would pass pleasant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1333800" cy="13525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820880" y="533520"/>
            <a:ext cx="608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3: An “indulgence” was a docu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at guarante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 flipV="1">
            <a:off x="838080" y="1066320"/>
            <a:ext cx="0" cy="5791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752480" y="1828800"/>
            <a:ext cx="69343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) forgiveness of sins and a place in Heav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1333800" cy="13525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820880" y="533520"/>
            <a:ext cx="608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3: An “indulgence” was a docu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at guarante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 flipV="1">
            <a:off x="838080" y="1066320"/>
            <a:ext cx="0" cy="5791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1752480" y="1828800"/>
            <a:ext cx="69343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) Tetzel was a super salesm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) people were afraid of spending a long time in Purgatory after they di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) Tetzel offered a special “2 for 1” deal on Sunday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) every sale included a free bar of soa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1333800" cy="1352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822680" y="533520"/>
            <a:ext cx="6046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4: Tetzel’s indulgences were sel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ll becaus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3T04:57:31Z</dcterms:created>
  <dc:creator>Jeffrey T. Funk</dc:creator>
  <dc:description/>
  <dc:language>en-US</dc:language>
  <cp:lastModifiedBy>Wayne C. Deloach</cp:lastModifiedBy>
  <cp:lastPrinted>2004-02-06T22:20:04Z</cp:lastPrinted>
  <dcterms:modified xsi:type="dcterms:W3CDTF">2006-04-13T19:54:21Z</dcterms:modified>
  <cp:revision>245</cp:revision>
  <dc:subject/>
  <dc:title>No Slide Title</dc:title>
</cp:coreProperties>
</file>